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1D6-7C58-4F40-ACD6-B1CD9457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A2C-CACF-40FB-831B-CE8D1070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2A0-EBDF-4C31-876F-F6E23353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E27-5893-4CDD-8392-E46F43EB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869-AD9C-45B3-B008-511A7D2B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89D-CDA8-47DA-B340-15EA7222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819-E699-4D47-856F-84525E9D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54F-C559-4050-ADCA-FEBB1391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8E6-2AAB-47AA-8120-54D64645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F27-3979-412F-BE76-6EB32E2D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FFA-DB76-404B-8C3C-0876A71A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33C-C2F9-4985-80F4-90C0DE08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FD7ED-BD00-4176-B6CF-059C279F4E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6DB3E-900B-4308-AF4B-9694A72A9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Is carbon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s lithium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Na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Is krypton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s zirconium                              a metal 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meta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B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family does sodiu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family does ne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Mg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family does bromin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family does platinu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ong t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Si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beryllium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n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6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sulfur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n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2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boron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mass is 1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8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fluorine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F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transition 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7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argon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alkali 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8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aluminum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n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3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chromium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mass is 5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transition 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phosphorus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n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5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xenon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ble 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8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hydrogen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nme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1 valence elect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iodine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D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halog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7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- Which of the following statements about radon is fal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symbol is 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tomic number is 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a noble 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has 8 valenc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llium (Tl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ver (Ag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ium (He) 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cium (Ca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m (Ra)  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number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per (Cu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um (Fr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rogen (N) 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nium (Po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ypton (Kr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trium (Y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atomic mass o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ium (Li)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symbol of oxygen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symbol of zinc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N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symbol of cobalt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the symbol of neon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O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does Sn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does Au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Cl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does Pb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does Fe    stand fo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ow many valence electrons does Ar have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H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CO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C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HC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What is NaCl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What is O</a:t>
                      </a:r>
                      <a:r>
                        <a:rPr b="0" lang="en-US" sz="3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The following equation shows the combustion of sucro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12 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11 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chemical formula for sucros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The following equation shows the chemical reaction that occurs during the combustion of propa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5 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 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4 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chemical formula of propa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The following equation shows the chemical reaction that occurs during the decomposition of hydrogen peroxi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+ 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s the chemical formula of hydrogen peroxide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What is the chemical formula for wate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What is the chemical formula for sugar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What is the chemical formula for table salt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 + 2 HC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n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8 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0 C + 16 HC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Al +  3 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A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l + 3 Fe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3 F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12 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0 C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4 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reactan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Cl +  Ca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+ 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Na +  2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NaOH +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+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LiO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+ 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+ 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4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C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Na + 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NaC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cient- What are the products in this equ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 + 2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Ag + Cu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4:00:25Z</dcterms:created>
  <dc:creator>Caroline Roth</dc:creator>
  <dc:description/>
  <dc:language>en-US</dc:language>
  <cp:lastModifiedBy>Caroline Roth</cp:lastModifiedBy>
  <cp:lastPrinted>2011-04-19T04:57:22Z</cp:lastPrinted>
  <dcterms:modified xsi:type="dcterms:W3CDTF">2011-04-19T04:57:42Z</dcterms:modified>
  <cp:revision>11</cp:revision>
  <dc:subject/>
  <dc:title>Slide 1</dc:title>
</cp:coreProperties>
</file>